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8AC-9AAB-450F-8849-0E31C6CF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8DF-A282-4044-86B7-FB4AA185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240-27CD-425B-9336-958C1E61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E0A-EF24-48B2-848E-704D8E67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378-C3E8-40FD-981E-43C1D925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68B-3D18-4BF3-A7E9-20A54A83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277A-464E-441A-B8DB-F08C2AF8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150-5CB9-4955-AEEF-C4C30B2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812-1856-4B85-817F-B484DE6C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580-916C-41F9-B33B-00A42C6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2AD-4C91-473F-BEBB-E50A9894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067-6009-468E-9450-260CC361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65BC-6063-4A51-9047-FE06B76B4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30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ng1023"/>
          <p:cNvPicPr/>
          <p:nvPr/>
        </p:nvPicPr>
        <p:blipFill>
          <a:blip r:embed="rId1"/>
          <a:stretch/>
        </p:blipFill>
        <p:spPr>
          <a:xfrm>
            <a:off x="76320" y="0"/>
            <a:ext cx="899136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farmstead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d-bennettscastle-farm1930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great-depression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22:06:09Z</dcterms:created>
  <dc:creator>Steph</dc:creator>
  <dc:description/>
  <dc:language>en-US</dc:language>
  <cp:lastModifiedBy>Stephanie Palmieri</cp:lastModifiedBy>
  <dcterms:modified xsi:type="dcterms:W3CDTF">2010-06-29T01:07:55Z</dcterms:modified>
  <cp:revision>2</cp:revision>
  <dc:subject/>
  <dc:title>1930s </dc:title>
</cp:coreProperties>
</file>